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B46F-7074-4E82-B8CB-08F67A76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9D4E-BD5A-4761-9D21-926051E8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CDF-E8FD-4363-AD7D-3AF9E42B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496D-8BC3-450D-B306-DEB80F19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E65-C396-44D9-AEDA-CDFA0D0A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4D7B-A43F-4FAF-A935-58BEFE12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1C43-62DA-4F7F-B6C8-9EC529C6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0F1-D1FB-4421-AB03-10C876F1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0BF-8A47-4E6C-A09B-89713727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605C-9A3A-4F5A-A459-6A5A47EE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671-C946-4772-962A-8542F6B0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EE50-AE25-4E69-9F06-A2C723AD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955F-01B2-4EBE-B40E-06029FC047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80200" y="1447920"/>
            <a:ext cx="3819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 Clinic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agnos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238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429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4419360" cy="4419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3429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762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609480"/>
            <a:ext cx="813096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43 year-old man with an acutely swollen leg is exam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 a medical clin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848720" y="1600200"/>
            <a:ext cx="4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8153280" cy="685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676520" y="3048120"/>
            <a:ext cx="5715000" cy="2679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3048120"/>
            <a:ext cx="1143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3048120"/>
            <a:ext cx="13716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1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848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16:36:13Z</dcterms:modified>
  <cp:revision>215</cp:revision>
  <dc:subject/>
  <dc:title>Slide 1</dc:title>
</cp:coreProperties>
</file>